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872-6EB0-4B99-872E-E9A64556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A84-B662-4AE6-A2BD-16633CF5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AD4-CF64-40B0-BF30-12D9C40C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7CB-1D1D-40E7-9F67-7BCB7FCE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620FE-CE48-435B-8AFB-6B68228E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A4815-26CE-4428-B53B-8F028350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99E0F-94C6-4962-8E86-ACC0B867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D9523-B2C3-47ED-BC2C-2E861021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B2175-A4B0-487D-B161-0D868BB1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AD782-FFC1-4CCD-B851-2FE52C8E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33582-F9BE-4C7C-AA3E-2D56AC5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7F9-5DF1-4843-B2D0-9990B759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3A9BF-AB5D-48CD-B36A-861907E4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08F3-CAE0-407E-B50A-A42CF5C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5C6E8-963F-46E4-8ED4-9CBB85C7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026C3-B0CC-4C63-99AE-56597CBE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4B203-54EA-433C-B13E-D0EB1D4B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047-B829-4BE4-A588-3A543A6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57D-D5A1-41B9-81EA-37CBD302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5CD-4DAF-4F64-A8BC-9602F97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174-3737-4F5F-B2FD-86FEC7FC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625-563C-433C-9DED-CACCF50C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067-624E-4077-A4F8-18DA5752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2AB-6867-4E4C-8D90-57AE119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D90B-C787-4B55-B5DF-EE402B95A492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6B2F-F778-4389-9AF7-C75F0A3E277A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switch.com/water/how-much-water-us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03280" y="692280"/>
            <a:ext cx="61628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궁서"/>
              </a:rPr>
              <a:t>SSJJJ Storage Facil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궁서"/>
              <a:ea typeface="궁서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3573360"/>
            <a:ext cx="23050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SI JIN SEOL</a:t>
            </a: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JULIE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WOO JUNG JANG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SEONG LEE CHOI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JOO YOUNG YOO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373960" cy="19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Justification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of </a:t>
            </a:r>
            <a:r>
              <a:rPr b="0" lang="en-US" sz="48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Water</a:t>
            </a: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 storage</a:t>
            </a: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2997360"/>
            <a:ext cx="770580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OUR solution is correct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we believe OUR answer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WHY OUR SOLUTION IS CORRECT?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628640"/>
            <a:ext cx="80643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CYLINDER</a:t>
            </a:r>
            <a:r>
              <a:rPr b="0" lang="zh-CN" sz="40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＞</a:t>
            </a:r>
            <a:r>
              <a:rPr b="0" lang="en-US" sz="40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RECTANGULAR PRISM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디지영이체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This is because CYLINDER have large size than rectangular prism even it have SHORT lengt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디지영이체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Also the reason we choose second cheapest CYLINDER is if the height is long then it will breakdown easily by storm, wind.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굴림"/>
              </a:rPr>
              <a:t>HOW CAN WE BELIEVE OUR ANSWER?</a:t>
            </a:r>
            <a:endParaRPr b="0" lang="en-US" sz="36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ACCURACY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- USE CORRECT FORMULA TO FIND THE ANSW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- WE CAN BELIEVE OUR ANSWER BECAUSE WE   MADE OUR ANSWER ACCURATELY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- RANGE THE ANSWER IN ONE DECIMAL PLAC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- IT MAKE EASY TO COMPARE THE ANSWER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ur water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ylind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us = 4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ight = 13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s 658000 liters of wat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18200" y="1916280"/>
          <a:ext cx="3189240" cy="47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8200" y="1916280"/>
                    <a:ext cx="318924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2133720"/>
            <a:ext cx="6985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궁서"/>
              </a:rPr>
              <a:t>Storage for Gr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궁서"/>
              <a:ea typeface="궁서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mount of grain each person need to eat per day</a:t>
            </a: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person has different needs and different amounts of food they need to consume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age levels, gender and level of activity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formation given by Mr. Agustina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0g of grain per mea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ople usually have 3 meals a day; breakfast, lunch and dinn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0g x 3 =210g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0g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±10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people eat more than others and some people eat less than other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476280"/>
            <a:ext cx="8351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ount of grain needed for 50 famili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4±1 people in a family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people x 220 grams x 50 familie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55000g (55kg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or 2 weeks=14 day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5kg x 14=770k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0.77m³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1557360"/>
          <a:ext cx="8461080" cy="417348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69920"/>
                <a:gridCol w="1179360"/>
                <a:gridCol w="855720"/>
                <a:gridCol w="1071720"/>
                <a:gridCol w="1069920"/>
                <a:gridCol w="1071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dius (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 of the base (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ight (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rface area (2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(r+h)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ume (m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of metal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of concrete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3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63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7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05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.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.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12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.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.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76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.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95.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.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.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3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371.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.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.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03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.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.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90.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face area of the storag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373960" cy="19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Justification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of </a:t>
            </a:r>
            <a:r>
              <a:rPr b="0" lang="en-US" sz="48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Water</a:t>
            </a: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 storage</a:t>
            </a: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997360"/>
            <a:ext cx="770580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OUR solution is correct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we believe OUR answer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7854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굴림"/>
              </a:rPr>
              <a:t>WHY OUR SOULUTION IS CORRECT?</a:t>
            </a:r>
            <a:br>
              <a:rPr sz="3600"/>
            </a:br>
            <a:r>
              <a:rPr b="0" lang="en-US" sz="4000" spc="-1" strike="noStrike">
                <a:solidFill>
                  <a:srgbClr val="0000ff"/>
                </a:solidFill>
                <a:latin typeface="굴림"/>
              </a:rPr>
              <a:t>How can we believe OUR answer?</a:t>
            </a:r>
            <a:br>
              <a:rPr sz="4000"/>
            </a:b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Same as water we decide to put grain in cylinder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We got 70g for every people so we add ±10 to be enough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No need to think about height because we will store grain less so the length won’t be so big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It’s accurate and easy to understand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torage for water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932360" y="620640"/>
          <a:ext cx="3666960" cy="557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620640"/>
                    <a:ext cx="366696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5280" y="476280"/>
            <a:ext cx="8353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solution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us=0.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ight=0.97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es 770 kg of grain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How do we use water for in our daily lives?</a:t>
            </a: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in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ing a bath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shing toilet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ing cloth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ing dishes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3300"/>
                </a:solidFill>
                <a:uFillTx/>
                <a:latin typeface="굴림"/>
                <a:hlinkClick r:id="rId2"/>
              </a:rPr>
              <a:t>http://www.uswitch.com/water/how-much-water-use/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One person’s use of water in one day</a:t>
            </a: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3 liters for drin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times for flushing toilet (40 liters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 liters for taking show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5 liters for washing cloth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8 liters of water a day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88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Gothic"/>
              </a:rPr>
              <a:t>liter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49360"/>
            <a:ext cx="835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49360"/>
            <a:ext cx="849600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How many people in a family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Usually there are 2 adults in a family with 2 childr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= 4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±1 people in a family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Comic Sans MS"/>
              </a:rPr>
              <a:t>Amount of water needed 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188 liters x 5 people x 50 families= 47000 liter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Volume of the storage for water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=47000 liter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=4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3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2week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14day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7 x 14= 658 m3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The best shape to store water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775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tangular pr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060640"/>
          <a:ext cx="8147160" cy="182556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  <a:gridCol w="203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Width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Length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Height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Cost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88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61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955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14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</a:tbl>
          </a:graphicData>
        </a:graphic>
      </p:graphicFrame>
      <p:sp>
        <p:nvSpPr>
          <p:cNvPr id="96" name="TextBox 7"/>
          <p:cNvSpPr/>
          <p:nvPr/>
        </p:nvSpPr>
        <p:spPr>
          <a:xfrm>
            <a:off x="324000" y="40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ylind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4797360"/>
          <a:ext cx="8218440" cy="1825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Radius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Height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Cost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35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59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137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430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urface area of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Way of getting the surface area of a cylinde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²+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(r+h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ay of getting the cost of the storage</a:t>
            </a:r>
            <a:endParaRPr b="0" lang="en-US" sz="32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(2h+r)=Total surface area without the roof of the storag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multiply by 14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find a volume of floor of the storage with 0.5m added out side walls, and the thickness of the floor is 0.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multiply by 640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add the surface area with the volume =cost($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urface area of the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844640"/>
          <a:ext cx="8424720" cy="4173480"/>
        </p:xfrm>
        <a:graphic>
          <a:graphicData uri="http://schemas.openxmlformats.org/drawingml/2006/table">
            <a:tbl>
              <a:tblPr/>
              <a:tblGrid>
                <a:gridCol w="1054080"/>
                <a:gridCol w="1200240"/>
                <a:gridCol w="906480"/>
                <a:gridCol w="1425600"/>
                <a:gridCol w="855360"/>
                <a:gridCol w="876600"/>
                <a:gridCol w="1220760"/>
                <a:gridCol w="885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dius (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 of the base (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ight (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rface area (2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(r+h)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ume (m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of metal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of Concrete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cost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4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3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6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3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4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9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9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0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4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6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95280" y="314172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335772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2:23:21Z</dcterms:created>
  <dc:creator>SEC</dc:creator>
  <dc:description/>
  <dc:language>en-US</dc:language>
  <cp:lastModifiedBy>io</cp:lastModifiedBy>
  <dcterms:modified xsi:type="dcterms:W3CDTF">2008-11-30T15:23:03Z</dcterms:modified>
  <cp:revision>12</cp:revision>
  <dc:subject/>
  <dc:title>Storage for water</dc:title>
</cp:coreProperties>
</file>